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68B-366D-48C0-97EC-02FD8219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A8F-CC6B-476B-94B7-952D7BCA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B1E-0A13-4BD0-9915-6A55CD89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280-E1CB-464F-A7CD-4FD83E2D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A665-457E-45C6-810A-F9B7EB07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365-528F-4F76-BE95-359CE17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4A5-7B10-40AE-8734-6ED5AA8E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0E8-1F77-4320-B664-F10ECADD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1C78-E859-4C0B-BFD4-9E0BB12C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3E9A-F587-4ABC-9741-227DE401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7C6-2BC1-4B9B-A7F2-9CBFDE6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E34-8E6F-4B1B-B7F2-C123F055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A39-F735-4F56-A4D8-E169C88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FAF-A73A-4548-B313-6E6661A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EA9-166D-4566-8D92-A619FD0C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E45-48F2-45B7-B6A9-60B6E8C1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E1B0-ABF4-481F-B1FA-4F1E4DE7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C5A-29E3-4C8D-81B2-05FED8FD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F2D-8E38-4ED7-BE25-3C1F6C48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EF0-5B8D-47AB-852B-AD8D9CF3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E8E-0325-4030-A19E-18EDEE5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7D1-4408-43E3-B9ED-929E821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D1B-15D3-4B46-89ED-2C9D66D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E6A-BA5C-4EC2-A608-70171328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C8CF-842D-4718-9754-6E0D67C02E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6CB-93BA-41CA-BCFF-174AB6D2BD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Balancing Chemical Equat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Types of Reaction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2057040"/>
            <a:ext cx="426744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Unit #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2286000"/>
            <a:ext cx="800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3680" y="2057400"/>
            <a:ext cx="69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Yields, or produces  (Reactant(s)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Product(s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0080" y="2797200"/>
            <a:ext cx="5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8880" y="2819520"/>
            <a:ext cx="468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lus, or combines wi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0160" y="42084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920" y="3508200"/>
            <a:ext cx="76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e reaction is reversible. (Can go either way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48600" y="129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81280"/>
            <a:ext cx="83844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2400">
            <a:off x="1066320" y="3885840"/>
            <a:ext cx="83844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2400">
            <a:off x="1141560" y="4723560"/>
            <a:ext cx="457200" cy="1508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2400">
            <a:off x="1143000" y="5638680"/>
            <a:ext cx="83808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41972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334120"/>
            <a:ext cx="45720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eaction is reversible, but, favors the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1814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eaction is reversible, but, favors the react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23623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057400"/>
            <a:ext cx="30492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60600" y="190512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 the presence of heat. (The reactants must be heate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8098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3840" y="33526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atal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07280" y="34290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 the presence of a cataly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Chalkboard"/>
              </a:rPr>
              <a:t>Catalyst -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 substance that speeds up a chemical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reaction without being used up.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-472680" y="3962520"/>
            <a:ext cx="757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Lowers the activation energy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82760" y="5006880"/>
            <a:ext cx="797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nzymes are biological cataly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0200" y="1600200"/>
            <a:ext cx="81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N.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85920" y="1600200"/>
            <a:ext cx="203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no reac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02680" y="2362320"/>
            <a:ext cx="15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s)  or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↓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3360" y="2362320"/>
            <a:ext cx="344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solid or a precipita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6960" y="3124080"/>
            <a:ext cx="22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Precipitate -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581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1. (noun)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substance, usually a solid,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hich separates from a solution as a result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f some physical or chemical chan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. (verb)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o make such a substance as previously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describ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2680" y="19051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0" y="190512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3400" y="320040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g)  or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↑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5800" y="3201840"/>
            <a:ext cx="9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6840" y="4572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aq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4197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queous, the substance is dissolved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alancing Chemical Equations</a:t>
            </a:r>
            <a:br>
              <a:rPr sz="2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In all balanced equations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505320"/>
            <a:ext cx="7924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# of atoms of each element on the left of the "yields" arrow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952880"/>
            <a:ext cx="8153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# of atoms of each element on the right of the "yields" arr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46720" y="4419720"/>
            <a:ext cx="203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must eq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220968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any equations can be balanced by trial and error…  However, the following five rules will make balancing qui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rite the correct formulas: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-293400" y="2743200"/>
            <a:ext cx="95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For all reactants to the left of the a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7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For all products to the right of the a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more than one reactant or product,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parate them with a "plus" 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120000"/>
              </a:lnSpc>
              <a:buClr>
                <a:srgbClr val="ffffff"/>
              </a:buClr>
              <a:buFont typeface="Chalkboar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nce the correct formula is written: </a:t>
            </a: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NEV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hange the subscript(s)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3.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  Set up a chart:</a:t>
            </a:r>
            <a:br>
              <a:rPr sz="2800"/>
            </a:b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-119520" y="2819520"/>
            <a:ext cx="91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ith all atom types down the lef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15280" y="365760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 colum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0480" y="4343400"/>
            <a:ext cx="55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ne labeled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5880" y="5105520"/>
            <a:ext cx="66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i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other labeled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a “Chemical Equation”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4.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Start with any element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that appears only once on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both sides of the equation.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5. 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Balance the elements one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at a time by adding coefficients in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front of the formulas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-335880" y="327672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emember: no coefficient =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1911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Multiply coefficients by the subscrip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o determine the number of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241200" y="525780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djust coefficient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halkboard"/>
              </a:rPr>
              <a:t>What thing can we determine from a balanced equation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89548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roportions of reactants &amp; product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Remember: the coefficient shows mole rat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0384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# of atoms / molecules / formula units /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m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50292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From the mole ratio… we can use DIMO to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alculate gra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Hydrogen and Iodine react to form Hydrogen iodide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H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958480" y="2971800"/>
            <a:ext cx="331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2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Hydrogen bromide and Oxygen react to form water and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 Bromin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808640" y="2895480"/>
            <a:ext cx="474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Br  +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+  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55640" y="2895480"/>
            <a:ext cx="53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4HBr  +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+  2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Carbon dioxide and water in the presence of sunlight and chlorophyll react to produce glucose (C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Chalkboard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Chalkboard"/>
              </a:rPr>
              <a:t>12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Chalkboard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) and oxygen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220040" y="3429000"/>
            <a:ext cx="64670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Copper and concentrated Nitric acid react to form Copper (II) nitrate, water, and Nitrogen dioxide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u  +  4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Cu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+  2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89800" y="3352680"/>
            <a:ext cx="8214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u  +  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u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Sodium hydroxide and Sulfuric acid react to yield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Sodium sulfate and water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NaOH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0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3960" y="3352680"/>
            <a:ext cx="732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aOH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Barium hydroxide and Nitric acid react to form Barium nitrate and water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Ba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70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724280"/>
            <a:ext cx="109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3000" y="3352680"/>
            <a:ext cx="781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B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a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Unit #8 part II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ypes of Chemical Re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Chemical Equation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 expression representing a chemical reac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034640" y="3889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m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388944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eactant(s)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Product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9920" y="495288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arrow is read as "yield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Endothermic-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bsorbs energy (heat) from its surrounding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-596160" y="3581280"/>
            <a:ext cx="936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Ba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8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a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10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Exothermic- 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eleases energy (heat) to its surrounding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665000" y="4118040"/>
            <a:ext cx="545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Mg  +  2HCl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Combustion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31237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n element or compound reacts with oxygen, often producing energy (heat &amp; light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Combustion of an element:</a:t>
            </a:r>
            <a:br>
              <a:rPr sz="36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A  + 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A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095480" y="37339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87800" y="4191120"/>
            <a:ext cx="61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 + 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S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+  energy 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07080" y="4800600"/>
            <a:ext cx="69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Mg 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2MgO  (+  energy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Combustion of a hydrocarbon: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9067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General formula: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C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x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y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 +  O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 CO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+ H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10304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0840" y="4724280"/>
            <a:ext cx="755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+ 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(+  energy 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4080" y="472428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2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1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+  25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16C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+ 18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 (+  energy)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Synthesis-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lvl="2" marL="106272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lso known as "combination" reactions; two or more substances react to form a single substanc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65120" y="3962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 +  B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67920" y="4495680"/>
            <a:ext cx="4212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3040" y="48769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Decomposition-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ingle compound is broken down into two or more simpler substanc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886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B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 +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480060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71800" y="480060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59800" y="175248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Electrolysis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12000" y="350532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pecific type of decomposition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4520" y="27432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terally means “Electricity” “splitting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502920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19440" y="472428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67560" y="175248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Single Replacement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38280"/>
            <a:ext cx="8610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toms of a more reactive element, replace those of a less reactive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3657600"/>
            <a:ext cx="91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se types of reactions depend on the "Activity Serie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160" y="465120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A  +  BC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  +  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65720" y="548964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where "A" is more reactive than "B"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68360" y="1752480"/>
            <a:ext cx="63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Single Replacement (con’t)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2160" y="289548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A  +  BC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  +  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65520" y="495288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where "A" is more reactive than "B"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61800" y="327672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360" y="3276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94400" y="3276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9280" y="3276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33840" y="38098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00720" y="38098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Reactant(s)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tarting substance(s) in a reac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41120" y="1752480"/>
            <a:ext cx="36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Activity series-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743200"/>
            <a:ext cx="9144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listing of metals in decreasing activity. (Just as in "electrochemistry", any metal above any other metal(s), can replace those below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-1026360" y="1905120"/>
            <a:ext cx="104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hat will the products be of the following reac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1120" y="2895480"/>
            <a:ext cx="335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  +  Zn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89160" y="3962520"/>
            <a:ext cx="32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  +  2Ag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9240" y="5029200"/>
            <a:ext cx="294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  +  Li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18120" y="2895480"/>
            <a:ext cx="22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Zn  +  Mg(N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65840" y="3962520"/>
            <a:ext cx="242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2Ag  +  Mg(N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9360" y="502920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N.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95120" y="1752480"/>
            <a:ext cx="514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Double Replacement-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164520" y="267012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change of cations between two comp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360" y="3581280"/>
            <a:ext cx="72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B  +  XY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XB  +  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49568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The above will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only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occur if: one of the products is either a solid, gas, or a salt with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490680" y="1905120"/>
            <a:ext cx="90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ample with a ppt. (solid) produc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3840" y="3200400"/>
            <a:ext cx="38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KI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9480" y="3227400"/>
            <a:ext cx="25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98000" y="1828800"/>
            <a:ext cx="688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Example with a gaseous product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0560" y="2743200"/>
            <a:ext cx="420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)  +  Na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2920" y="2743200"/>
            <a:ext cx="30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a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)  +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50532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ote that th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rapidly undergoes a simultaneous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94120" y="4419720"/>
            <a:ext cx="46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50480" y="525780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type of reaction is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7560" y="52578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Decom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609480" y="2209680"/>
            <a:ext cx="952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amples with a salt and water being produc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02120" y="3505320"/>
            <a:ext cx="44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Cl  +  NaOH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82480" y="3505320"/>
            <a:ext cx="219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aCl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-609480" y="1600200"/>
            <a:ext cx="952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amples with a salt and water being produc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4520" y="3809880"/>
            <a:ext cx="4499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HCl  +  Mg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0600" y="3809880"/>
            <a:ext cx="24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+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209680"/>
            <a:ext cx="91440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following reaction is what occurs when someone takes a small dose of "Milk of Magnesia" for heart burn (large doses act as a</a:t>
            </a:r>
            <a:r>
              <a:rPr b="0" lang="en-US" sz="2400" spc="-1" strike="noStrike">
                <a:solidFill>
                  <a:srgbClr val="ff0000"/>
                </a:solidFill>
                <a:latin typeface="Chalkboar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laxativ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472428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econd reaction simultaneously occurs. What type of reaction occurs? And, what are the produc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roduct(s)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bstance(s) formed by the reaction. (ending substanc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015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Can anyone tell me the chemical equation for respiration (using words)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4577760" y="419112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Using symbo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85800" y="3352680"/>
            <a:ext cx="960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lucose   +   Oxygen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arbon dioxide +   W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560" y="5003640"/>
            <a:ext cx="7648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  +   6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→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6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  +   6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ymbols used in chemical equations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200040"/>
            <a:ext cx="3124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Element symbol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49640" y="3565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4600" y="320040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1 atom of one 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01880" y="4648320"/>
            <a:ext cx="19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Subscrip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6483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dicates the number of atoms i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molecul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2280" y="2133720"/>
            <a:ext cx="7772400" cy="25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NEVER CHANGE THE SUBSCRIPT OF A CORRECTLY WRITTEN FORMULA 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11480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Reason: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572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number of atoms in a molecule is an experimental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Symbols used in chemical equations (con’t):</a:t>
            </a:r>
            <a:br>
              <a:rPr sz="36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124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Coefficien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49640" y="3565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429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The number to the left of a formula, assumed to be one "1" if not wr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1800" y="4724280"/>
            <a:ext cx="882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What things can be determined by the "coefficient"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00360" y="5334120"/>
            <a:ext cx="257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The mole rat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39040" y="5334120"/>
            <a:ext cx="346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the molecular rat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3800" y="5334120"/>
            <a:ext cx="80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51:57Z</dcterms:created>
  <dc:creator>PA Department of Education</dc:creator>
  <dc:description/>
  <dc:language>en-US</dc:language>
  <cp:lastModifiedBy>PA Department of Education</cp:lastModifiedBy>
  <dcterms:modified xsi:type="dcterms:W3CDTF">2008-05-05T01:00:10Z</dcterms:modified>
  <cp:revision>101</cp:revision>
  <dc:subject/>
  <dc:title>PowerPoint Presentation</dc:title>
</cp:coreProperties>
</file>